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Amer03.wav" ContentType="audio/x-wav"/>
  <Override PartName="/ppt/media/image10.png" ContentType="image/png"/>
  <Override PartName="/ppt/media/stones-cantget.wav" ContentType="audio/x-wav"/>
  <Override PartName="/ppt/media/image7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boing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FE47-1A7E-4E6A-89D4-12ECA3265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BC3-89A5-486C-B998-6E0656F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D2A6-A935-4500-989C-838699580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3C0-BB97-474B-818E-F109C485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A879-501D-4AA7-B6B5-F06D4D30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0110-39EE-457F-A546-80AB3719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B23A-4984-428B-B207-7F77ADEB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691-0FA5-4140-8AB9-97A695C6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57A3-7D8C-4333-A5D0-5C87F430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B25-B8C6-4213-AB39-E1646BD7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63FD-C930-49E7-A696-1FC3BDC3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6A9-8B33-48A6-8569-25A631AB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C229-FB82-44B1-B07F-324847487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05040" y="304920"/>
            <a:ext cx="3733920" cy="1181160"/>
            <a:chOff x="2705040" y="304920"/>
            <a:chExt cx="3733920" cy="1181160"/>
          </a:xfrm>
        </p:grpSpPr>
        <p:sp>
          <p:nvSpPr>
            <p:cNvPr id="6" name="AutoShape 8"/>
            <p:cNvSpPr/>
            <p:nvPr/>
          </p:nvSpPr>
          <p:spPr>
            <a:xfrm>
              <a:off x="2705040" y="304920"/>
              <a:ext cx="3733920" cy="1143000"/>
            </a:xfrm>
            <a:prstGeom prst="horizont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WordArt 9"/>
            <p:cNvSpPr txBox="1"/>
            <p:nvPr/>
          </p:nvSpPr>
          <p:spPr>
            <a:xfrm>
              <a:off x="3162240" y="838080"/>
              <a:ext cx="3114720" cy="648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9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 theme is...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tones-cantget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Amer03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boin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8"/>
          <p:cNvSpPr/>
          <p:nvPr/>
        </p:nvSpPr>
        <p:spPr>
          <a:xfrm>
            <a:off x="749160" y="1752480"/>
            <a:ext cx="764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 universal message or truth ab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9" descr="mick jagger"/>
          <p:cNvPicPr/>
          <p:nvPr/>
        </p:nvPicPr>
        <p:blipFill>
          <a:blip r:embed="rId1"/>
          <a:stretch/>
        </p:blipFill>
        <p:spPr>
          <a:xfrm>
            <a:off x="380880" y="2438280"/>
            <a:ext cx="3281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18"/>
          <p:cNvGrpSpPr/>
          <p:nvPr/>
        </p:nvGrpSpPr>
        <p:grpSpPr>
          <a:xfrm>
            <a:off x="2362320" y="4876920"/>
            <a:ext cx="6781320" cy="1676160"/>
            <a:chOff x="2362320" y="4876920"/>
            <a:chExt cx="6781320" cy="1676160"/>
          </a:xfrm>
        </p:grpSpPr>
        <p:sp>
          <p:nvSpPr>
            <p:cNvPr id="47" name="AutoShape 9"/>
            <p:cNvSpPr/>
            <p:nvPr/>
          </p:nvSpPr>
          <p:spPr>
            <a:xfrm>
              <a:off x="2362320" y="4876920"/>
              <a:ext cx="6781320" cy="1676160"/>
            </a:xfrm>
            <a:prstGeom prst="wedgeEllipseCallout">
              <a:avLst>
                <a:gd name="adj1" fmla="val -54384"/>
                <a:gd name="adj2" fmla="val -48379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13"/>
            <p:cNvSpPr/>
            <p:nvPr/>
          </p:nvSpPr>
          <p:spPr>
            <a:xfrm>
              <a:off x="3428280" y="5538600"/>
              <a:ext cx="4884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You can’t always get what you wan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  <p:sndAc>
      <p:stSnd>
        <p:snd r:embed="rId2" name="stones-cantge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9"/>
          <p:cNvSpPr/>
          <p:nvPr/>
        </p:nvSpPr>
        <p:spPr>
          <a:xfrm>
            <a:off x="0" y="2819520"/>
            <a:ext cx="9144000" cy="3018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obert McNeil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ouble with Television,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tle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eme of the pie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problems with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914400" y="19810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times stated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66680" y="17524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ometimes impli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514600" y="3429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367160" y="3040200"/>
            <a:ext cx="226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19320" y="2819520"/>
            <a:ext cx="67816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Through metaph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Through 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Through 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ima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tone of 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ough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4419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eam Defer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to a dream defer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dry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raisin in the s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ester like a sore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ru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stink like rotten me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crust and sugar over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syrupy sw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05520" y="2209320"/>
            <a:ext cx="358128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it just s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heavy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oes it just explod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gston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0"/>
          <p:cNvSpPr/>
          <p:nvPr/>
        </p:nvSpPr>
        <p:spPr>
          <a:xfrm>
            <a:off x="2286000" y="14842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31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hughes.mov" descr=""/>
          <p:cNvPicPr/>
          <p:nvPr/>
        </p:nvPicPr>
        <p:blipFill>
          <a:blip r:embed="rId1"/>
          <a:stretch/>
        </p:blipFill>
        <p:spPr>
          <a:xfrm>
            <a:off x="4419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567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eeping in the For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Mary Oli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the earth remembered 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ok me back so tender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ing her dark skirts, her po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of lichens and s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4798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168560" y="1523880"/>
            <a:ext cx="680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0typ_wfp[1]"/>
          <p:cNvPicPr/>
          <p:nvPr/>
        </p:nvPicPr>
        <p:blipFill>
          <a:blip r:embed="rId1"/>
          <a:stretch/>
        </p:blipFill>
        <p:spPr>
          <a:xfrm>
            <a:off x="6254640" y="2197080"/>
            <a:ext cx="2889360" cy="2616120"/>
          </a:xfrm>
          <a:prstGeom prst="rect">
            <a:avLst/>
          </a:prstGeom>
          <a:ln w="0">
            <a:noFill/>
          </a:ln>
        </p:spPr>
      </p:pic>
      <p:sp>
        <p:nvSpPr>
          <p:cNvPr id="64" name="WordArt 9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21932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905120" y="13716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ne of v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10439280" y="320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3"/>
          <a:stretch/>
        </p:blipFill>
        <p:spPr>
          <a:xfrm>
            <a:off x="102870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4"/>
          <a:stretch/>
        </p:blipFill>
        <p:spPr>
          <a:xfrm>
            <a:off x="10287000" y="6705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8229600" y="57150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10" descr="darth vader image"/>
          <p:cNvPicPr/>
          <p:nvPr/>
        </p:nvPicPr>
        <p:blipFill>
          <a:blip r:embed="rId5"/>
          <a:stretch/>
        </p:blipFill>
        <p:spPr>
          <a:xfrm>
            <a:off x="457200" y="1600200"/>
            <a:ext cx="2017800" cy="25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office space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572000" y="2057400"/>
            <a:ext cx="297180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adam sandler"/>
          <p:cNvPicPr/>
          <p:nvPr/>
        </p:nvPicPr>
        <p:blipFill>
          <a:blip r:embed="rId7"/>
          <a:stretch/>
        </p:blipFill>
        <p:spPr>
          <a:xfrm>
            <a:off x="1905120" y="4419720"/>
            <a:ext cx="205884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8" descr="jack nicholson"/>
          <p:cNvPicPr/>
          <p:nvPr/>
        </p:nvPicPr>
        <p:blipFill>
          <a:blip r:embed="rId8">
            <a:lum contrast="12000"/>
          </a:blip>
          <a:srcRect l="0" t="0" r="18606" b="0"/>
          <a:stretch/>
        </p:blipFill>
        <p:spPr>
          <a:xfrm>
            <a:off x="4572000" y="4267080"/>
            <a:ext cx="266688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3952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4557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3674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2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2004840" y="1600200"/>
            <a:ext cx="51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erican flag sept 11th"/>
          <p:cNvPicPr/>
          <p:nvPr/>
        </p:nvPicPr>
        <p:blipFill>
          <a:blip r:embed="rId1"/>
          <a:stretch/>
        </p:blipFill>
        <p:spPr>
          <a:xfrm>
            <a:off x="2666880" y="2438280"/>
            <a:ext cx="3810240" cy="4038840"/>
          </a:xfrm>
          <a:prstGeom prst="rect">
            <a:avLst/>
          </a:prstGeom>
          <a:ln w="0">
            <a:noFill/>
          </a:ln>
        </p:spPr>
      </p:pic>
      <p:sp>
        <p:nvSpPr>
          <p:cNvPr id="77" name="WordArt 7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over dir="lu"/>
    <p:sndAc>
      <p:stSnd>
        <p:snd r:embed="rId2" name="Amer03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2209680"/>
            <a:ext cx="7925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fe is a yo-yo. It's a series of ups and down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371600" y="1600200"/>
            <a:ext cx="66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d throug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ph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7391520" y="5486400"/>
            <a:ext cx="5238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ack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Picture 8" descr="yo yo"/>
          <p:cNvPicPr/>
          <p:nvPr/>
        </p:nvPicPr>
        <p:blipFill>
          <a:blip r:embed="rId1"/>
          <a:stretch/>
        </p:blipFill>
        <p:spPr>
          <a:xfrm>
            <a:off x="-2362320" y="-838080"/>
            <a:ext cx="1970280" cy="3504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ing.wav"/>
                                        </p:tgtEl>
                                      </p:cMediaNode>
                                    </p:audio>
                                    <p:animMotion origin="layout" path="M 0.08385 0.31945 C 0.08802 0.32778 0.09271 0.33565 0.09635 0.34445 C 0.09896 0.35093 0.0993 0.35926 0.1026 0.36528 C 0.10833 0.37547 0.11823 0.38125 0.12448 0.39028 C 0.13871 0.3882 0.1533 0.39028 0.1651 0.37778 C 0.18663 0.35486 0.18003 0.34885 0.20573 0.34028 C 0.22743 0.34329 0.25382 0.3426 0.26823 0.36945 C 0.27448 0.38125 0.27517 0.38936 0.2776 0.40278 C 0.28055 0.4375 0.2849 0.47361 0.29323 0.50695 C 0.29514 0.65023 0.28663 0.69468 0.30885 0.79861 C 0.31285 0.8169 0.31337 0.83264 0.32135 0.84861 C 0.32344 0.85973 0.32552 0.87084 0.3276 0.88195 C 0.32847 0.88681 0.33212 0.89005 0.33385 0.89445 C 0.33524 0.89838 0.33594 0.90278 0.33698 0.90695 C 0.33819 0.9176 0.33976 0.94074 0.34323 0.95278 C 0.35555 0.9963 0.34462 0.94329 0.3526 0.98611 C 0.35156 0.96806 0.35191 0.94977 0.34948 0.93195 C 0.34861 0.92593 0.34462 0.92107 0.34323 0.91528 C 0.33524 0.88334 0.33351 0.84422 0.33073 0.81111 C 0.33177 0.77778 0.33125 0.74422 0.33385 0.71111 C 0.33524 0.69283 0.3467 0.67662 0.3526 0.66111 C 0.35399 0.65718 0.35365 0.65209 0.35573 0.64861 C 0.36996 0.62547 0.3901 0.6 0.41198 0.59028 C 0.4309 0.60718 0.43385 0.61528 0.44323 0.64028 C 0.44601 0.64746 0.45 0.65371 0.4526 0.66111 C 0.45729 0.67477 0.46094 0.68889 0.4651 0.70278 C 0.46701 0.70926 0.46684 0.71667 0.46823 0.72361 C 0.47135 0.73889 0.47448 0.75417 0.4776 0.76945 C 0.48281 0.79491 0.48871 0.81852 0.49323 0.84445 C 0.49514 0.85556 0.49948 0.87778 0.49948 0.87801 C 0.50156 0.91158 0.50035 0.95648 0.5151 0.98611 C 0.52361 0.91806 0.51458 0.99653 0.52135 0.84861 C 0.52274 0.81945 0.52899 0.79051 0.53073 0.76111 C 0.53194 0.73889 0.53212 0.71667 0.53385 0.69445 C 0.53507 0.67801 0.54305 0.66204 0.54948 0.64861 C 0.55694 0.63241 0.56493 0.60926 0.5776 0.59861 C 0.58542 0.5919 0.59514 0.58936 0.6026 0.58195 C 0.61858 0.56598 0.61007 0.57107 0.6276 0.56528 C 0.63073 0.5625 0.63333 0.55764 0.63698 0.55695 C 0.64844 0.5551 0.65382 0.56227 0.66198 0.56945 C 0.66615 0.57778 0.67205 0.58496 0.67448 0.59445 C 0.67552 0.59861 0.67621 0.60301 0.6776 0.60695 C 0.67934 0.61135 0.68229 0.61482 0.68385 0.61945 C 0.68646 0.62755 0.68802 0.63611 0.6901 0.64445 C 0.69115 0.64861 0.69323 0.65695 0.69323 0.65718 C 0.69722 0.72084 0.70243 0.78519 0.70885 0.84861 C 0.71285 0.88889 0.71233 0.92963 0.71823 0.96945 C 0.7224 0.96806 0.72778 0.96922 0.73073 0.96528 C 0.73594 0.95834 0.73871 0.93241 0.7401 0.92361 C 0.73837 0.80162 0.73403 0.70417 0.7401 0.58611 C 0.74219 0.54607 0.74774 0.46898 0.78385 0.45695 C 0.82413 0.46042 0.82899 0.45533 0.85573 0.48195 C 0.86892 0.53473 0.84687 0.45047 0.8651 0.50695 C 0.87135 0.52616 0.87031 0.54954 0.87448 0.56945 C 0.87604 0.57662 0.87917 0.58311 0.88073 0.59028 C 0.88351 0.60255 0.88472 0.61528 0.88698 0.62778 C 0.89496 0.72338 0.87882 0.82199 0.89635 0.91528 C 0.8974 0.94167 0.89774 0.96806 0.89948 0.99445 C 0.89983 1.00023 0.89861 1.00926 0.9026 1.01111 C 0.90625 1.01273 0.90677 1.00278 0.90885 0.99861 C 0.9309 0.82199 0.91493 0.92153 0.91198 0.52361 C 0.91302 0.47084 0.91059 0.41783 0.9151 0.36528 C 0.91597 0.35533 0.9283 0.33611 0.93698 0.33195 C 0.94496 0.32801 0.96198 0.32361 0.96198 0.32385 C 0.9724 0.325 0.98385 0.32153 0.99323 0.32778 C 1 0.33218 1.00573 0.35278 1.00573 0.35301 C 1.00781 0.36389 1.01024 0.37477 1.01198 0.38611 C 1.01406 0.4 1.01823 0.42778 1.01823 0.42801 C 1.02066 0.48449 1.02361 0.53287 1.03698 0.58611 C 1.04219 0.60672 1.05104 0.62338 1.05573 0.64445 C 1.05764 0.65278 1.06198 0.66945 1.06198 0.66968 C 1.06302 0.78473 1.06076 0.90023 1.0651 1.01528 C 1.06528 1.02107 1.07222 1.00787 1.07448 1.00278 C 1.08003 0.99005 1.08212 0.96204 1.08385 0.94861 C 1.07899 0.825 1.08194 0.89584 1.07448 0.73611 C 1.07361 0.71667 1.07413 0.69699 1.07135 0.67778 C 1.06684 0.64653 1.05399 0.6125 1.04635 0.58195 C 1.04097 0.53195 1.0368 0.50903 1.02448 0.46528 C 1.0184 0.44352 1.01823 0.4375 1.0026 0.42361 C 0.99323 0.42778 0.98351 0.43056 0.97448 0.43611 C 0.95347 0.44908 0.94722 0.47986 0.94323 0.50695 C 0.94427 0.53611 0.9441 0.56551 0.94635 0.59445 C 0.94722 0.60579 0.95052 0.61667 0.9526 0.62778 C 0.9559 0.64561 0.9566 0.66389 0.95885 0.68195 C 0.9599 0.76111 0.95764 0.84051 0.96198 0.91945 C 0.96233 0.92454 0.96927 0.91528 0.97135 0.91111 C 0.97378 0.90625 0.97344 0.9 0.97448 0.89445 C 0.98264 0.74167 0.97743 0.58773 0.96198 0.43611 C 0.95677 0.38542 0.95434 0.32408 0.93698 0.27778 C 0.92795 0.22199 0.9243 0.18704 0.8901 0.15278 C 0.86979 0.13241 0.88194 0.13936 0.8651 0.13195 C 0.8526 0.13473 0.83941 0.13403 0.8276 0.14028 C 0.82274 0.14283 0.82083 0.15093 0.81823 0.15695 C 0.81354 0.1676 0.80573 0.19028 0.80573 0.19051 C 0.80469 0.28889 0.80382 0.3875 0.8026 0.48611 C 0.80139 0.57848 0.80555 0.64561 0.7901 0.72778 C 0.78906 0.74167 0.78698 0.75556 0.78698 0.76945 C 0.78698 0.77917 0.78281 0.79699 0.7901 0.79861 C 0.79809 0.80047 0.80052 0.78195 0.80573 0.77361 C 0.8191 0.72917 0.81597 0.675 0.81823 0.62778 C 0.81719 0.55278 0.81701 0.47778 0.8151 0.40278 C 0.81198 0.27709 0.82257 0.25093 0.7776 0.16528 C 0.77118 0.15301 0.7625 0.14213 0.75885 0.12778 C 0.75781 0.12361 0.75799 0.11829 0.75573 0.11528 C 0.75347 0.11227 0.74948 0.1125 0.74635 0.11111 C 0.73246 0.12963 0.72396 0.1544 0.7151 0.17778 C 0.70538 0.25533 0.71024 0.33264 0.7151 0.41111 C 0.71233 0.45602 0.71024 0.50533 0.69948 0.54861 C 0.70486 0.56991 0.70069 0.56227 0.70885 0.54028 C 0.72101 0.50787 0.71042 0.54676 0.71823 0.51528 C 0.72326 0.46875 0.72257 0.42477 0.70885 0.38195 C 0.70451 0.36829 0.70764 0.36898 0.69948 0.35695 C 0.69253 0.34676 0.6849 0.3375 0.6776 0.32778 C 0.67222 0.32061 0.6651 0.31667 0.65885 0.31111 C 0.65573 0.30834 0.64948 0.30278 0.64948 0.30301 C 0.64635 0.30556 0.64201 0.30695 0.6401 0.31111 C 0.63663 0.31852 0.63385 0.33611 0.63385 0.33635 C 0.63785 0.39005 0.63229 0.36528 0.64948 0.41111 C 0.65243 0.41898 0.65573 0.43611 0.65573 0.43635 C 0.65469 0.47361 0.65451 0.51111 0.6526 0.54861 C 0.65174 0.56598 0.65035 0.56158 0.64323 0.55695 E">
                                      <p:cBhvr>
                                        <p:cTn id="244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2T14:51:04Z</dcterms:created>
  <dc:creator>sstein</dc:creator>
  <dc:description/>
  <dc:language>en-US</dc:language>
  <cp:lastModifiedBy>Regan Family</cp:lastModifiedBy>
  <dcterms:modified xsi:type="dcterms:W3CDTF">2012-09-27T00:36:47Z</dcterms:modified>
  <cp:revision>30</cp:revision>
  <dc:subject/>
  <dc:title>Slide 1</dc:title>
</cp:coreProperties>
</file>